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212-3C4A-42D3-8853-B0C54147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0F7-36C8-4F96-A57B-209A74CB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190-FE88-4A44-BCD1-703B92B5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57B-1E2F-4244-9781-B1A52DAD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B982-220A-4A05-951C-D72BE738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38C3-83E0-4D76-9F11-B91379C1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0AD8-41D6-4025-A2BE-DF3247B9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D5A0-7142-40F7-BBD9-F2CC7BD2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4819-F21A-48E4-A254-E293858B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6750-49BA-4EBC-94CB-57AABC2A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A70A-2E3D-41DB-834E-196DB5D1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5A4-10BD-484E-B5AF-B3917156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F628-9177-430F-8926-A16EAF6A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57C7-D66A-4D14-BE57-E04E654C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9D4F-510B-4577-9B75-9C24A70E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C83D-3797-4697-ACE6-14FCEF29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810D-F9EA-4D81-B949-FA90408A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280-C23B-488F-AC1A-06BB9C5C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7AE-DBD8-4111-8ACC-AFA1594B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54D-EBA5-4B0F-9D4F-F1CD55CA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44A-AED6-49E3-8E95-520009EB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875-3639-4C8F-AFDA-4D3B9D77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F5D9-3A07-45A4-B14F-2B082C4B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537-B746-4D9B-BEBF-E7A6C126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DF31-DF72-4CBD-B880-B829F2CE62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54AE-6469-42D1-92D7-54D305B601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arpulse.com/Actresses/Fox,_Vivica/gallery/SGG-071802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imdb.com/rg/action-box-name/headshot/media/rm916233472/nm1139343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ap_of_USA_TX.sv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bout m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athan Stew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43434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1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vorite celebr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vica f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t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Vivica A. Fox-SGG-0718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2697120" cy="4267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Katt William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2666880"/>
            <a:ext cx="2639880" cy="3353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lace of bir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umont, Tex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Map of the United States with Texas highlight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971800"/>
            <a:ext cx="27241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mil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- Briget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- Ed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chools attende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Bingman Elementary "/>
          <p:cNvPicPr/>
          <p:nvPr/>
        </p:nvPicPr>
        <p:blipFill>
          <a:blip r:embed="rId2"/>
          <a:stretch/>
        </p:blipFill>
        <p:spPr>
          <a:xfrm>
            <a:off x="990720" y="1523880"/>
            <a:ext cx="4505040" cy="1314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South Park Middle School "/>
          <p:cNvPicPr/>
          <p:nvPr/>
        </p:nvPicPr>
        <p:blipFill>
          <a:blip r:embed="rId3"/>
          <a:stretch/>
        </p:blipFill>
        <p:spPr>
          <a:xfrm>
            <a:off x="990720" y="2895480"/>
            <a:ext cx="4524120" cy="1343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Odom Academy"/>
          <p:cNvPicPr/>
          <p:nvPr/>
        </p:nvPicPr>
        <p:blipFill>
          <a:blip r:embed="rId4"/>
          <a:stretch/>
        </p:blipFill>
        <p:spPr>
          <a:xfrm>
            <a:off x="990720" y="4267080"/>
            <a:ext cx="4524120" cy="1343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57200" y="5457960"/>
            <a:ext cx="92584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ob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c pen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ys-r-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or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t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1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1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101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laces to go t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ash t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wling al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vorite  foo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z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g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c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030480" cy="32767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vorite mus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l Way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ng d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k r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.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16:22:21Z</dcterms:created>
  <dc:creator>762913</dc:creator>
  <dc:description/>
  <dc:language>en-US</dc:language>
  <cp:lastModifiedBy>762913</cp:lastModifiedBy>
  <dcterms:modified xsi:type="dcterms:W3CDTF">2009-04-08T16:37:50Z</dcterms:modified>
  <cp:revision>3</cp:revision>
  <dc:subject/>
  <dc:title>About me</dc:title>
</cp:coreProperties>
</file>